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B604-6ADF-4976-8CCE-C6B26B4A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2AA7-D063-4C86-8D9C-9E25790E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0E7-3AE6-445A-B8F1-355F256E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50EA-F7C0-4022-9B97-2CDE4334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1F17-0AEC-41B6-B9D8-3E4BFFDD4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266-3162-40B2-B49C-9D465B23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A9F4-29FF-4EC1-8AC4-96E74C69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0DB0-D089-4554-B258-0B22D1A4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6F5-7745-449A-BD1D-978BB671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8B2E-426C-4393-A4C9-8225E053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140-64AC-45ED-A74F-180F683C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2883-E8BB-4E5F-9213-E4F49FDD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61B3-3996-404A-AC4F-0DC6C8D19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943600" y="5257800"/>
            <a:ext cx="3276720" cy="685800"/>
          </a:xfrm>
          <a:prstGeom prst="rect">
            <a:avLst/>
          </a:prstGeom>
          <a:solidFill>
            <a:srgbClr val="063a6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ar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562720" y="5257800"/>
            <a:ext cx="3657600" cy="685800"/>
          </a:xfrm>
          <a:prstGeom prst="rect">
            <a:avLst/>
          </a:prstGeom>
          <a:solidFill>
            <a:srgbClr val="0177b2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und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733920" y="533520"/>
            <a:ext cx="5562360" cy="685800"/>
          </a:xfrm>
          <a:prstGeom prst="rect">
            <a:avLst/>
          </a:prstGeom>
          <a:solidFill>
            <a:srgbClr val="87254b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ing road ah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400800" y="5257800"/>
            <a:ext cx="2819520" cy="685800"/>
          </a:xfrm>
          <a:prstGeom prst="rect">
            <a:avLst/>
          </a:prstGeom>
          <a:solidFill>
            <a:srgbClr val="ca1e2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-76320" y="457200"/>
            <a:ext cx="2286000" cy="685800"/>
          </a:xfrm>
          <a:prstGeom prst="rect">
            <a:avLst/>
          </a:prstGeom>
          <a:solidFill>
            <a:srgbClr val="891e3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76320" y="990720"/>
            <a:ext cx="4953240" cy="685800"/>
          </a:xfrm>
          <a:prstGeom prst="rect">
            <a:avLst/>
          </a:prstGeom>
          <a:solidFill>
            <a:srgbClr val="d62e25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lippery when w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48520" y="5257800"/>
            <a:ext cx="2971800" cy="685800"/>
          </a:xfrm>
          <a:prstGeom prst="rect">
            <a:avLst/>
          </a:prstGeom>
          <a:solidFill>
            <a:srgbClr val="a2101d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ve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76320" y="533520"/>
            <a:ext cx="3276720" cy="685800"/>
          </a:xfrm>
          <a:prstGeom prst="rect">
            <a:avLst/>
          </a:prstGeom>
          <a:solidFill>
            <a:srgbClr val="b83d1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 left tur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8:45:21Z</dcterms:created>
  <dc:creator>Brent Hautle</dc:creator>
  <dc:description/>
  <dc:language>en-US</dc:language>
  <cp:lastModifiedBy>Brent Hautle</cp:lastModifiedBy>
  <dcterms:modified xsi:type="dcterms:W3CDTF">2007-04-20T09:28:13Z</dcterms:modified>
  <cp:revision>5</cp:revision>
  <dc:subject/>
  <dc:title>PowerPoint Presentation</dc:title>
</cp:coreProperties>
</file>