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3E74-C8E1-44F2-9255-65E38AE6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C1D2-C524-4A24-AE36-6DF4D9B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AFA0-97B5-4775-9E68-F6A2261B3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1F6B-1B8F-4A06-B363-2333C80C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154-D9A3-4E0B-8FD0-F13B973A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0859-EFAE-4686-9A0F-021AF557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F08C-AEC9-41B8-9591-231402F7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D576-E8F9-4C65-9A65-AD1C4D994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1D2-CC7B-4130-8444-0D6EC02D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921-9C8C-44B7-9461-994985FA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9299-109B-49FA-84A9-0634421E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E23-9E5B-4B6A-BE12-C23CC9FD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D6F8-9DC7-4144-90C5-E81DCE1E9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457200"/>
            <a:ext cx="4724280" cy="685800"/>
          </a:xfrm>
          <a:prstGeom prst="rect">
            <a:avLst/>
          </a:prstGeom>
          <a:solidFill>
            <a:srgbClr val="6a919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rooklyn Bridge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2280" y="5562720"/>
            <a:ext cx="4724280" cy="685800"/>
          </a:xfrm>
          <a:prstGeom prst="rect">
            <a:avLst/>
          </a:prstGeom>
          <a:solidFill>
            <a:srgbClr val="637dc4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illau Bridge,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86200" y="609480"/>
            <a:ext cx="5410080" cy="685800"/>
          </a:xfrm>
          <a:prstGeom prst="rect">
            <a:avLst/>
          </a:prstGeom>
          <a:solidFill>
            <a:srgbClr val="713711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Golden Gate Bridge,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76320" y="457200"/>
            <a:ext cx="4724640" cy="685800"/>
          </a:xfrm>
          <a:prstGeom prst="rect">
            <a:avLst/>
          </a:prstGeom>
          <a:solidFill>
            <a:srgbClr val="1d324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0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Tower Bridge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2806" t="-301" r="3088" b="1608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6320" y="1066680"/>
            <a:ext cx="6019920" cy="685800"/>
          </a:xfrm>
          <a:prstGeom prst="rect">
            <a:avLst/>
          </a:prstGeom>
          <a:solidFill>
            <a:srgbClr val="536f7e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onfederation Bridge,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588" t="1022" r="7728" b="6254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6320" y="762120"/>
            <a:ext cx="5562720" cy="685800"/>
          </a:xfrm>
          <a:prstGeom prst="rect">
            <a:avLst/>
          </a:prstGeom>
          <a:solidFill>
            <a:srgbClr val="86554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Chapel Bridge, Switz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7:58:28Z</dcterms:created>
  <dc:creator>Brent Hautle</dc:creator>
  <dc:description/>
  <dc:language>en-US</dc:language>
  <cp:lastModifiedBy>Brent Hautle</cp:lastModifiedBy>
  <dcterms:modified xsi:type="dcterms:W3CDTF">2007-04-16T13:27:05Z</dcterms:modified>
  <cp:revision>5</cp:revision>
  <dc:subject/>
  <dc:title>PowerPoint Presentation</dc:title>
</cp:coreProperties>
</file>